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01545"/>
        <c:axId val="91772671"/>
      </c:barChart>
      <c:catAx>
        <c:axId val="15001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72671"/>
        <c:crosses val="autoZero"/>
        <c:auto val="1"/>
        <c:lblAlgn val="ctr"/>
        <c:lblOffset val="100"/>
        <c:noMultiLvlLbl val="0"/>
      </c:catAx>
      <c:valAx>
        <c:axId val="91772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01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992-EA3A-4489-A1AF-B079489C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8F3-467F-4713-8FCF-CD61CE0B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E14-3AA5-46F0-94CD-47034CC1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C68-DE48-4443-9DFB-4F4262BA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77F-CB2E-4EA1-92B5-7B5A3457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A06-0707-449E-B39F-64546D8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6A6-2764-4E03-8443-F29FAD39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1B4-EDD3-4DCC-8971-FD96CE5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4A5-691C-450A-8C11-4DA20DEA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9C8-D905-4824-A1FE-DAA2D2E1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0F7-3A60-4B59-8F85-B086A9E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4C3-1C7E-44BB-843B-ADABBF66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39617-8395-4D49-B693-0AC647F4F4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