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16849"/>
        <c:axId val="93321499"/>
      </c:barChart>
      <c:catAx>
        <c:axId val="45216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21499"/>
        <c:crosses val="autoZero"/>
        <c:auto val="1"/>
        <c:lblAlgn val="ctr"/>
        <c:lblOffset val="100"/>
        <c:noMultiLvlLbl val="0"/>
      </c:catAx>
      <c:valAx>
        <c:axId val="93321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16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9AF-0514-4AD6-A0EE-C673D35B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DFF-9346-4BF1-895A-90D80997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BF4-A9C4-4641-8EDE-967F69A7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F77-FDB5-4C62-B9EF-C31B1B8A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9F5-4D80-400A-BADA-6DDE05D6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B30-749F-4476-A4C5-48AD7F4F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03C-1D40-416C-A6ED-5AE7BC9F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EEA-56B2-428A-8873-D76B736D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A18-E331-4042-BAC1-24BDF6EB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C95-6F81-4966-A2CC-75B3186F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074-28FC-4CE5-B0FD-EEA30EDE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767-5AB1-485C-8134-95C1541E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D8D83-96C3-4C0F-A665-56C82B6A8A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