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5597"/>
        <c:axId val="11786575"/>
      </c:barChart>
      <c:catAx>
        <c:axId val="7905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86575"/>
        <c:crosses val="autoZero"/>
        <c:auto val="1"/>
        <c:lblAlgn val="ctr"/>
        <c:lblOffset val="100"/>
        <c:noMultiLvlLbl val="0"/>
      </c:catAx>
      <c:valAx>
        <c:axId val="11786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5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D3D-2ED7-4E68-923C-3DA2FA61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BFA-3136-4FB9-81F0-BD89E04F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3BB-3D34-4B0B-9E10-FB731E57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FA8-DBD6-4EB5-B5FE-84913862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F71-82BA-493B-819B-DB0282EF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C7D-2EFE-46FA-943C-FE71FD86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39A-32EE-42A0-B4FA-592CE7DA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2939-7701-4C5F-BE85-478646A8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411-951C-4383-97CF-D50A21FA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0A7-E9BE-45B4-A645-AD0271FE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B18-9BEE-4BBA-9784-8BC8B99B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62D-E1C6-44E1-B489-A1E3E935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86CFA-DD41-4EF2-97D1-A4F0409074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