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12790"/>
        <c:axId val="95647568"/>
      </c:barChart>
      <c:catAx>
        <c:axId val="73112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47568"/>
        <c:crosses val="autoZero"/>
        <c:auto val="1"/>
        <c:lblAlgn val="ctr"/>
        <c:lblOffset val="100"/>
        <c:noMultiLvlLbl val="0"/>
      </c:catAx>
      <c:valAx>
        <c:axId val="95647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2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BBC-F07C-4A29-BC25-799293F9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1D2-ABAA-4BB2-94EF-52A5A5F9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47E-F20E-4B77-81AE-1941BE7D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A68-703A-4A52-8601-67D71FD3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70C-D8D9-4833-A2DD-E1C6BFBE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9C1-2C36-45C7-A17E-BDB4EEF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3A6-1439-430E-85C4-E30BD12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6D2-4F67-4263-A671-34FA03A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5A7-FB77-4AE4-895C-83653F08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EEC-FA0A-4AAB-87AB-2C9E5782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0E4-20F0-4C64-B87E-2B7FC7F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29A-85F7-4A74-80DD-D21D52C9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8BB55-39D4-4A96-99FA-F8BD26FED2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