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99339"/>
        <c:axId val="84832192"/>
      </c:barChart>
      <c:catAx>
        <c:axId val="48899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2192"/>
        <c:crosses val="autoZero"/>
        <c:auto val="1"/>
        <c:lblAlgn val="ctr"/>
        <c:lblOffset val="100"/>
        <c:noMultiLvlLbl val="0"/>
      </c:catAx>
      <c:valAx>
        <c:axId val="84832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99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C20-280B-40DB-9A2C-239B2A8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18C-25EA-460E-90C9-74F1478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EE0-7661-43B6-94F9-58DD5155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406-45E8-437B-9AAA-12D73F71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153-819A-4026-A43E-0F79584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781-D714-4E7C-B391-0846290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6D5-3A56-4FFE-9B0B-18029AA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34D-018B-44BB-8A88-3D60C91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AC3-49C0-4881-8513-FC0A195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B88-B90F-4D4C-B44B-952C035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ACC-93A4-4FAB-8B6D-AAC89B4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C5A-6A69-4401-A9EE-294685A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38E3E-9090-4C42-837C-D6D26B318C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