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808191"/>
        <c:axId val="52324701"/>
      </c:barChart>
      <c:catAx>
        <c:axId val="978081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324701"/>
        <c:crosses val="autoZero"/>
        <c:auto val="1"/>
        <c:lblAlgn val="ctr"/>
        <c:lblOffset val="100"/>
        <c:noMultiLvlLbl val="0"/>
      </c:catAx>
      <c:valAx>
        <c:axId val="523247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8081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184F-FB23-4DF2-BA2A-2365A9582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10AC-ED8A-42C4-9A7B-1D9537BD9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DD83-B242-4CFF-A5CB-4B70BE962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E39E-022F-4EBD-B14C-98B5E318E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AB88-D351-4201-A376-0D905AB9C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47EF-C259-4B62-817A-E28A918B7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A25C-EB8A-4A5F-87A0-F2B3C7BC2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45B7-A64A-4B85-93CB-4D993A776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2E13-BB6F-46B5-BEBC-905493342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BDC1-066B-4B73-AA52-45D29570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1810-D78D-4060-BE76-726A448B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0A2B-C38A-4917-BD1D-EA6E93B3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7A8127-9AEC-4D05-9AC4-E9C7321DD64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