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344302"/>
        <c:axId val="11267061"/>
      </c:barChart>
      <c:catAx>
        <c:axId val="2134430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1267061"/>
        <c:crosses val="autoZero"/>
        <c:auto val="1"/>
        <c:lblAlgn val="ctr"/>
        <c:lblOffset val="100"/>
        <c:noMultiLvlLbl val="0"/>
      </c:catAx>
      <c:valAx>
        <c:axId val="11267061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34430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5E465-C695-455B-8959-1124163F00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76E44-2E25-48E3-BA2D-E1631C38ED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B89A-A301-47CD-9D55-5CF8012F08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7BBFF-5F20-4D27-933C-2F2586C289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F2F0A-6609-46F2-8E78-469D71F71A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9869F-8B60-45D7-B3E4-F3DA310433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A90A7-3DE4-44E2-9F20-B07B2FF371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3FA43-1BD4-459D-88B0-550CB0784B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A2A92-06BE-4537-97B5-756D07AE2A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620813-4C89-40FC-99EA-FBB5DD854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5789-D2E8-467F-B638-64A911D98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CA760E-74AB-4FF8-B20B-65C397B76C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21EBED-C5C3-40D5-83C7-C99F6B9A5DC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