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34518"/>
        <c:axId val="33843024"/>
      </c:barChart>
      <c:catAx>
        <c:axId val="61834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43024"/>
        <c:crosses val="autoZero"/>
        <c:auto val="1"/>
        <c:lblAlgn val="ctr"/>
        <c:lblOffset val="100"/>
        <c:noMultiLvlLbl val="0"/>
      </c:catAx>
      <c:valAx>
        <c:axId val="3384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4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2B5-F29B-42D7-8915-97C0CF53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588-4F4A-418F-B483-953D8AD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5B0-E3B7-46E3-AA6E-3F185819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789-D15F-4697-952D-7BE45505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5C8-A0EC-432A-A45C-B46E22C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6A0-AF45-45F4-805E-0CB1438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EDC-6ADA-4F4A-BFCB-0026BA8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093-809B-4113-AE1F-D98A14B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1AE-B650-49CE-A361-7E72A6E8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93F-899D-4E78-B91C-0D0F3BF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C50-CBF7-4653-814B-55A4A17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367-E219-4E4C-8AFE-58902D1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577E-2AFA-4B8C-91D8-884B80E43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