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08185"/>
        <c:axId val="59540546"/>
      </c:barChart>
      <c:catAx>
        <c:axId val="32408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40546"/>
        <c:crosses val="autoZero"/>
        <c:auto val="1"/>
        <c:lblAlgn val="ctr"/>
        <c:lblOffset val="100"/>
        <c:noMultiLvlLbl val="0"/>
      </c:catAx>
      <c:valAx>
        <c:axId val="59540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08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223-E96A-4E3D-B007-9699478A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3B8-9194-42AE-A3ED-93E021CD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528-0F7A-47E9-A7AE-6F9A8E9C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102-B514-4E2D-B5E5-150EDBA7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067-C0E3-4D78-AD2D-6654420F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D86-FA98-4088-BB88-F8494454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D6C-E352-4DF1-ADD4-DC39AF5D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D85-213E-4C01-B521-57F27ECE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226-5B51-44CE-BB20-7D3D7DD7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0F6-49AF-4514-BE45-DC287F82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EBF-5F07-44B9-BA58-99985B05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1B3-5144-47D9-9CC7-3C2B955A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F711C-8E12-41E1-9C2E-7D10FE20C8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