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19587"/>
        <c:axId val="85933799"/>
      </c:barChart>
      <c:catAx>
        <c:axId val="53719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33799"/>
        <c:crosses val="autoZero"/>
        <c:auto val="1"/>
        <c:lblAlgn val="ctr"/>
        <c:lblOffset val="100"/>
        <c:noMultiLvlLbl val="0"/>
      </c:catAx>
      <c:valAx>
        <c:axId val="85933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19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53B-240E-4DC4-B9DF-D87F0C56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7A9-AA0D-4D0C-9E69-FCB3545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046-B3CA-49D0-80C7-3BBFA45E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F56-CF28-4FBE-8CF8-B0035EE3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88E-5EA7-47EB-8159-32BA0394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84C-7A83-4BA9-BD2F-CAC2818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23A-E4A0-4550-97BA-DDAFC4A9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33B-A867-42AD-9C69-3CE7AF14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569-6C62-476C-B37D-F67A11C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A91-9869-4505-A38F-F654467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33B-5A43-496D-B0DA-DA592FF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D28-A0A5-4A8A-B6B7-7F37A9B2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6B79C-5CFD-4B4A-8ACF-9D14EDAAD4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