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28770"/>
        <c:axId val="10736362"/>
      </c:barChart>
      <c:catAx>
        <c:axId val="18128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6362"/>
        <c:crosses val="autoZero"/>
        <c:auto val="1"/>
        <c:lblAlgn val="ctr"/>
        <c:lblOffset val="100"/>
        <c:noMultiLvlLbl val="0"/>
      </c:catAx>
      <c:valAx>
        <c:axId val="10736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28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850-A92B-4714-A087-6AA1FCA8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EB6-9772-413F-BBA0-894DEC4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E22-07B3-46DB-A531-8359F304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DB5-56CB-4E62-8CAB-4DBB2F77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898-8A82-4E7E-B36F-EB903C5E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406-6E03-4318-8CB2-DB84DA3D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060-32EB-41C2-AC96-BFCE6F7E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008-38FA-47D2-8F35-0EE44D08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D12-8E08-44FC-85E6-DA1EAB9E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C8C-B60A-43D5-9712-58A7D568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777-13C7-4D9E-B2E9-D268254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CEF-994E-4FA1-AE6A-8CBBE61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4411C-5942-486D-B515-4231D135E7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