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19080"/>
        <c:axId val="18913055"/>
      </c:barChart>
      <c:catAx>
        <c:axId val="642190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13055"/>
        <c:crosses val="autoZero"/>
        <c:auto val="1"/>
        <c:lblAlgn val="ctr"/>
        <c:lblOffset val="100"/>
        <c:noMultiLvlLbl val="0"/>
      </c:catAx>
      <c:valAx>
        <c:axId val="18913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190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C5D7-7DA0-4560-A40D-43CDF0CA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F63-9BE0-4A7B-96F0-53DCB88C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00AD-C4C7-4FF4-B2F6-57943526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21A-247D-4162-8026-8476C702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3BB2-D283-409E-AAE3-8E3D547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FAC-75A3-491A-83AA-162C61A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C99-266C-41A3-9AA0-3FDF9D41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160-63F5-45C0-823E-191ED76FB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8121-1642-4D39-A2D1-F63EB653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EFC-2195-45F2-B24B-034DEC14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912-D04B-442E-9764-E64C00A7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1CE9-AF3E-4432-9D72-4FF9C2B0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9D472-A776-491D-9B03-1E6B34909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