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231032"/>
        <c:axId val="38261714"/>
      </c:barChart>
      <c:catAx>
        <c:axId val="572310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61714"/>
        <c:crosses val="autoZero"/>
        <c:auto val="1"/>
        <c:lblAlgn val="ctr"/>
        <c:lblOffset val="100"/>
        <c:noMultiLvlLbl val="0"/>
      </c:catAx>
      <c:valAx>
        <c:axId val="382617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310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6022-5E10-49B5-BF35-B60C087C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D34B-A71D-46D3-9B2B-1C98D550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091A-3864-40B4-AB05-B9B6200B6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BC8B-D95B-4429-9520-F65451396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79DE-F883-4EDA-956E-83341D89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3E24-A9CB-4AB6-9C28-64F9E06E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76E5-1654-4CB7-B8CC-10952E98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97EB-26AC-4732-8F6D-74042CDA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F580-7E5E-4E47-B32E-3946D9E1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7AB6-7695-4A4C-8936-F97947FA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5F6A-1984-4EAF-A36A-69733435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1A63-E6A8-4CF0-8F76-66FBBE79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4F07A-BE0F-4D5C-867E-4AD0D39E68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