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03682"/>
        <c:axId val="47337743"/>
      </c:barChart>
      <c:catAx>
        <c:axId val="783036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37743"/>
        <c:crosses val="autoZero"/>
        <c:auto val="1"/>
        <c:lblAlgn val="ctr"/>
        <c:lblOffset val="100"/>
        <c:noMultiLvlLbl val="0"/>
      </c:catAx>
      <c:valAx>
        <c:axId val="47337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036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51A1-3279-4CE0-B2EC-52C28D74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AE86-1948-4BBA-9D9F-C11A1239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E9A-B412-4D9D-9A0D-F4E9C134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0890-F38E-4262-A90C-58C1864B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7695-EBD0-4949-B062-62CFBA65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D4B1-D3ED-4F31-9ACD-F5036F9D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C3E7-5575-4E97-8091-E8C2FB83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E27F-45E5-480F-A628-03720749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B4B-CB59-4C6C-82AC-7D9A7D64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0AEB-7831-49C6-B499-907B8FEE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ECD-F3DD-4CA2-92A8-7B18ECC2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94E3-0EC7-4AAD-A29F-2BF2951D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DB7DC-3A85-4C87-BC41-9D6606A493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