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63172"/>
        <c:axId val="7782305"/>
      </c:barChart>
      <c:catAx>
        <c:axId val="21863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2305"/>
        <c:crosses val="autoZero"/>
        <c:auto val="1"/>
        <c:lblAlgn val="ctr"/>
        <c:lblOffset val="100"/>
        <c:noMultiLvlLbl val="0"/>
      </c:catAx>
      <c:valAx>
        <c:axId val="7782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63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4C1-D697-4C6F-9775-00A45C53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BB3-A2BF-458F-9356-267723CB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577-61CC-483E-AD4D-3D5E028F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4B2-28F5-42D8-9AB7-882D505E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4BC-9F83-41E6-AB9F-1FEBB324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BB0-E898-42E6-9C75-6BB168B1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C96-028C-43EE-85B9-7F470E5D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A97-CA51-4B3C-BE4F-0FAA7E96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580-444B-403A-935B-976B9D1E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B60-392B-4359-A5D3-8DC1D46A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1A0-AACE-49A5-9D26-3DF61646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489-D176-4548-8290-1563818A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397BC-96B1-4A10-A2D5-5750EE329B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