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69724"/>
        <c:axId val="83726698"/>
      </c:barChart>
      <c:catAx>
        <c:axId val="67269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6698"/>
        <c:crosses val="autoZero"/>
        <c:auto val="1"/>
        <c:lblAlgn val="ctr"/>
        <c:lblOffset val="100"/>
        <c:noMultiLvlLbl val="0"/>
      </c:catAx>
      <c:valAx>
        <c:axId val="83726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69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D5E-ADFF-4E06-92C1-9B113792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867-AF15-4C58-8A81-5816111C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A6A-91AE-4AFD-AB2E-30EEB336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CDB-3B9E-4510-99FD-C2BD41A7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B0F-571E-4C54-8700-3BD8E5F1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75B-68D3-4F77-BB45-C8709369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B91-E565-48AB-9C58-2E3A5F9D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016-754B-4B48-BB74-954DB651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C84-CDC4-4262-9FCA-7C28A181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A51-2D81-4AE6-9F7E-5C71FF58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FCA-DD01-438E-BF3D-0D2FB40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420-E91E-43E2-A2CD-144CBDAC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1BAC7-C439-4A4C-ABDA-7E70101958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