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52403"/>
        <c:axId val="89660296"/>
      </c:barChart>
      <c:catAx>
        <c:axId val="18752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60296"/>
        <c:crosses val="autoZero"/>
        <c:auto val="1"/>
        <c:lblAlgn val="ctr"/>
        <c:lblOffset val="100"/>
        <c:noMultiLvlLbl val="0"/>
      </c:catAx>
      <c:valAx>
        <c:axId val="89660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52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DF7-F3AF-402A-80DB-77B01CC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BC0-613C-42B9-A346-2B6D48D0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C72-3F6C-4EA2-9499-2B180F5E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255-5B9D-4A44-B5CF-B960A28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86E-836A-4124-BA7F-A58DFBE3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63C-92BC-4D18-9E48-898C7F2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D8F-43DF-4CFD-8D70-39E32E45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52D-68FB-4B8C-9CE7-6C41A64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C98-13DF-4C77-87BC-3C13B97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10C-50E8-448D-A19E-0655A48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50E-CA77-4067-BD18-2FAAAD5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350-EAAE-412E-99E8-292809B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D7352-75A3-4684-B42D-FD14FC1A3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