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36671"/>
        <c:axId val="8743783"/>
      </c:barChart>
      <c:catAx>
        <c:axId val="73936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783"/>
        <c:crosses val="autoZero"/>
        <c:auto val="1"/>
        <c:lblAlgn val="ctr"/>
        <c:lblOffset val="100"/>
        <c:noMultiLvlLbl val="0"/>
      </c:catAx>
      <c:valAx>
        <c:axId val="8743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6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E44-C200-4A57-BA6C-378A5097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456-60D4-4C70-A6DF-1DB1311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355-0CCD-4963-9BEC-641FD682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AB2-5918-4A67-B18D-CC9B9D33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65C-46CB-4605-B002-FDA750D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6CB-A9BC-400F-A515-0B03B75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8CE-5463-46D6-9DAA-668BFEB2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020-3642-47D4-8BE1-7BFB7E87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E63-54C6-4867-86AA-1B338E85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AEC-FEB3-4DEE-A9C3-6CE0E48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D23-EF2C-45AE-95DB-F649A83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887-3EA6-4830-9462-DF5B938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571C4-CA9C-4087-971A-EF57F0A7C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