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240731"/>
        <c:axId val="34110823"/>
      </c:barChart>
      <c:catAx>
        <c:axId val="122407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10823"/>
        <c:crosses val="autoZero"/>
        <c:auto val="1"/>
        <c:lblAlgn val="ctr"/>
        <c:lblOffset val="100"/>
        <c:noMultiLvlLbl val="0"/>
      </c:catAx>
      <c:valAx>
        <c:axId val="34110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407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DF6F-41DD-41C7-BD66-A869C1FF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07B-7FA3-4AD2-9EED-07C3B757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3F82-F134-4BFC-A5E5-A4D88C72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321D-DE5D-4F6A-B989-FA7D8B57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30CE-AFCF-4788-9763-7310E109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69E4-5AF0-426C-B3FF-401406A9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438-88E9-479E-B3C3-7ADFD663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732C-BE27-4AAD-9B1F-26986A43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B310-D6A8-4344-A239-CB9AD004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6D8-AE99-46C6-9DFA-F7C81324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18F-D88A-4E3E-B512-7B70C618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28B-CEBE-4B86-8B8A-0C4DC681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62823-E357-49E7-AFF0-13EC36D261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