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84653"/>
        <c:axId val="70422417"/>
      </c:barChart>
      <c:catAx>
        <c:axId val="48684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2417"/>
        <c:crosses val="autoZero"/>
        <c:auto val="1"/>
        <c:lblAlgn val="ctr"/>
        <c:lblOffset val="100"/>
        <c:noMultiLvlLbl val="0"/>
      </c:catAx>
      <c:valAx>
        <c:axId val="70422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84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93A-BD81-418F-9DC3-3BA48A42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E8F-65EC-4942-8014-FBE2E3F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61F-A52C-4CA0-ABF8-8685F1E4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057-88BA-4CB9-96C8-7375E90B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1A5-DC17-4016-9801-999D7C1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A93-30A5-451D-A14D-8AEC36C1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10A-78DF-447A-AB55-29707956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60B-3D1A-4A33-BA94-E8BCF4C3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1E7-72F9-4566-8EFC-4726B3D6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E0D-70AE-4132-B0A9-E34A80D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AA7-0EA2-43E9-A677-35970D0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F1E-9733-4D2B-B354-44E09A9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2DAB3-5964-454F-B65D-4011BBA36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