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513493"/>
        <c:axId val="11777088"/>
      </c:barChart>
      <c:catAx>
        <c:axId val="875134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777088"/>
        <c:crosses val="autoZero"/>
        <c:auto val="1"/>
        <c:lblAlgn val="ctr"/>
        <c:lblOffset val="100"/>
        <c:noMultiLvlLbl val="0"/>
      </c:catAx>
      <c:valAx>
        <c:axId val="117770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5134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F889-CF6A-4826-B995-0B82B9564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4198-CD36-4FBD-92B3-7B6A5E205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032F-A63D-4DFC-B2C7-55257FF66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110C-35D6-4409-A8DE-3E688F9C4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D1D4-7D61-4209-8564-B92C3E985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B738-C3F8-41A7-A29F-A42ACAAE4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E8CB-97DE-4777-8A2B-017883EC6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714B-1C44-4431-805D-878CB9733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100A-7952-4E79-8427-50748BDDA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5C85-F1EF-419F-BC9E-257EC5289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D0FF-8CDA-49BF-B6BD-1762F33F9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32A1-51AC-4F47-8800-0110681F7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3B842C-69D3-438E-8366-15B12918CB0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