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48293"/>
        <c:axId val="58668212"/>
      </c:barChart>
      <c:catAx>
        <c:axId val="824482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68212"/>
        <c:crosses val="autoZero"/>
        <c:auto val="1"/>
        <c:lblAlgn val="ctr"/>
        <c:lblOffset val="100"/>
        <c:noMultiLvlLbl val="0"/>
      </c:catAx>
      <c:valAx>
        <c:axId val="58668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482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F4F-53D5-4382-A902-6CAEE0F5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2DD-DC76-4C84-8A2F-75EAC24E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868-37CD-43BB-97FD-269CDB28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78E7-5988-4845-A08A-B2CA02FE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222C-4B11-44EF-A627-F8D3DB32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8C8-7FEF-4CE7-A2A2-BE991951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7BF-B2AB-482B-A683-D6C140CD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574-32A0-40C2-962F-CAC24066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4DE-0F30-4515-9910-5CCAB1C3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0BC-E143-4CC9-88E1-20F3D317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396-56FE-4D76-949A-8DB127E9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7B1-2170-4F34-9DBF-F0CED4C4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745A6-48DB-4243-B19C-B4E411EF5F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