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73896"/>
        <c:axId val="32191306"/>
      </c:barChart>
      <c:catAx>
        <c:axId val="55373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91306"/>
        <c:crosses val="autoZero"/>
        <c:auto val="1"/>
        <c:lblAlgn val="ctr"/>
        <c:lblOffset val="100"/>
        <c:noMultiLvlLbl val="0"/>
      </c:catAx>
      <c:valAx>
        <c:axId val="32191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73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A9C-694B-44E5-AF78-4997333F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C3A-BEBD-47D5-9DB5-E72A5FF7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312-1CE0-4A9E-8FE7-0128E403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E50-7388-4369-ACC1-0F4652DF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47B-4443-430A-A2A6-1F0004DC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1BD-2D19-445C-BED2-427762F3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B3F-5DBC-4E34-8638-81BF3118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09A-E7A5-4FFE-BDBB-5DC06080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325-D689-4405-98FA-28368E71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8F4-28EF-47AA-81A8-B9A893A4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CF3-76AC-45A7-82F2-5BA705A8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345-02D0-41A7-8AA7-29B773B8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D24F3-FB8F-408B-B82F-AA37640651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