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10409"/>
        <c:axId val="33550538"/>
      </c:barChart>
      <c:catAx>
        <c:axId val="32310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50538"/>
        <c:crosses val="autoZero"/>
        <c:auto val="1"/>
        <c:lblAlgn val="ctr"/>
        <c:lblOffset val="100"/>
        <c:noMultiLvlLbl val="0"/>
      </c:catAx>
      <c:valAx>
        <c:axId val="33550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10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3EC-7729-4283-B988-B8EA060A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AED-3009-4D69-8B52-6637CB13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9CF-F2F5-45EF-89EC-8474F0DF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6CF-ACEE-4DEB-B3DB-63A7C052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8AA-EB73-4CED-998E-6C12B174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689-3F7E-4C9C-BAF5-EDF248C1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70C-3B2B-4763-9394-2E7B2D53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C1E-68A0-4913-8180-B52AD1D1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A6C-D560-4271-9C74-669ED26A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971-CDCA-432B-A785-E3554202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FB4-24AE-49F8-B8D1-DF129EF3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EE1-94A2-49A6-BD50-FC4E485B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B93FD-55AF-4B2F-9FD9-142B045D63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