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95528"/>
        <c:axId val="6616946"/>
      </c:barChart>
      <c:catAx>
        <c:axId val="686955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6946"/>
        <c:crosses val="autoZero"/>
        <c:auto val="1"/>
        <c:lblAlgn val="ctr"/>
        <c:lblOffset val="100"/>
        <c:noMultiLvlLbl val="0"/>
      </c:catAx>
      <c:valAx>
        <c:axId val="66169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955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D9C-96FB-4454-BA7F-E2BD40E6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D12-92C4-427A-A56A-6194F47D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7AB-78A6-45EA-9489-2D7DA4C5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BF8-713C-4C72-9BD7-C3084387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9DF-92F0-4161-A6ED-ACF4C33F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8CC-FE6D-42C7-B508-7705016A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577-1845-414A-9905-40E608B0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F10-52F5-4F56-A54F-88859044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998E-7E17-4813-A0E1-9679600A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29D-C14D-47C9-8DCE-3DA916B9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ACB5-A908-4D67-936F-95A3B294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8F2-579F-477A-9BF9-0DE20B84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6EF07-9534-464B-9390-4B59BFF459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