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01269"/>
        <c:axId val="41476017"/>
      </c:barChart>
      <c:catAx>
        <c:axId val="84901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76017"/>
        <c:crosses val="autoZero"/>
        <c:auto val="1"/>
        <c:lblAlgn val="ctr"/>
        <c:lblOffset val="100"/>
        <c:noMultiLvlLbl val="0"/>
      </c:catAx>
      <c:valAx>
        <c:axId val="41476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1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E3B-11A5-4415-802F-271C835E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593-FB55-4706-8A49-6659499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919-5B01-460A-9599-5A8D4CE6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626-A761-4FA6-B640-4345650F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DD3-F65E-485C-907F-D696073D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BA7-5268-4EC2-894F-8B6DE9A9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FE0-F903-4B55-B5B1-A49D8153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BE5-D0FF-47A1-ADD8-BAC5DDF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178-52C9-4596-8484-FB3BDFE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158-931C-4487-9747-0F49D78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F7B-00B5-4225-90E2-2039D5CB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80E-F54F-4E18-8122-11B9842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0CBCC-53F9-457C-951C-A9091ECAF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