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088"/>
        <c:axId val="60246502"/>
      </c:barChart>
      <c:catAx>
        <c:axId val="2840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46502"/>
        <c:crosses val="autoZero"/>
        <c:auto val="1"/>
        <c:lblAlgn val="ctr"/>
        <c:lblOffset val="100"/>
        <c:noMultiLvlLbl val="0"/>
      </c:catAx>
      <c:valAx>
        <c:axId val="60246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0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09D-8B8B-4A6A-9172-18F156F3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CD1-52B6-49FA-93F0-F327B291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27D6-2B77-4EBA-8544-22E8CE8F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5FCE-7FE5-4143-BFAE-89873786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1818-CCE6-4D98-A733-676FEFCF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A54-1539-4F4E-B119-4C5E7449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C382-8C59-4F59-B2F3-F0B04926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D5E-C8E2-44CE-AFA8-55413781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022-396E-4397-8815-AD8D6FC3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DBE4-48E8-4CB3-AF77-3EB0B83D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5FD-3CDA-4EC8-A9D8-A3D286BF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5C8-4140-4B0E-8879-3E6931A5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D19EE-1F1A-4701-8779-821591A013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