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03750"/>
        <c:axId val="52134630"/>
      </c:barChart>
      <c:catAx>
        <c:axId val="31903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34630"/>
        <c:crosses val="autoZero"/>
        <c:auto val="1"/>
        <c:lblAlgn val="ctr"/>
        <c:lblOffset val="100"/>
        <c:noMultiLvlLbl val="0"/>
      </c:catAx>
      <c:valAx>
        <c:axId val="52134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03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AD8-0CEF-4381-891A-84B6DA1C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CB0-0CAF-4FF1-BE93-937906D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1D5-AD1B-439E-9DF5-14389F36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265-9287-4B1A-8DE9-48E67945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49B-6C42-4B1B-9FCF-57DE310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01F-D547-41E3-B5E0-BBDD9EEC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0D5-3594-47E0-A93A-A17CFD73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4B4-A061-4E8E-8492-29AEF9F5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458-EF57-4D03-9E0B-BF047A2B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478-EA92-438C-9625-6839141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EB0-688D-4FD8-A7DD-45E0748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9F3-2484-4D25-A849-559F2D30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2718-3780-47C4-96FF-98D1D219E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