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66465"/>
        <c:axId val="44735136"/>
      </c:barChart>
      <c:catAx>
        <c:axId val="53866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5136"/>
        <c:crosses val="autoZero"/>
        <c:auto val="1"/>
        <c:lblAlgn val="ctr"/>
        <c:lblOffset val="100"/>
        <c:noMultiLvlLbl val="0"/>
      </c:catAx>
      <c:valAx>
        <c:axId val="44735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6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AC1-09C6-4646-956A-90F63DE7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2CE-EF86-465D-ABAB-C454DDB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C2B-620E-45D6-BEC0-8C5BE42F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468-4A90-46BB-B24C-58C0FB7F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447-DE84-4872-BF8F-2EC7C1E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D1D-AB14-4133-9BE5-03B0096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937-A765-44BB-B472-7507A6F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AB2-E3F1-4002-BA46-30E0DFA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EB1-3CD1-4DA7-A7BA-833C5592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98F-7B9A-4CFB-BF30-3AB6D7A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1DA-3B1C-4D8C-BB48-847524E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6A3-1C32-45E1-B6CE-8D6FCA6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29B97-A6CE-44DD-B120-4C2895508E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