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2895"/>
        <c:axId val="86316560"/>
      </c:barChart>
      <c:catAx>
        <c:axId val="37862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16560"/>
        <c:crosses val="autoZero"/>
        <c:auto val="1"/>
        <c:lblAlgn val="ctr"/>
        <c:lblOffset val="100"/>
        <c:noMultiLvlLbl val="0"/>
      </c:catAx>
      <c:valAx>
        <c:axId val="86316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2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353-9EC6-4778-8CCC-C04A9754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98A-B430-49A3-85DE-6765669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97C-6928-45C7-B382-77F9E637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497-7CB5-4A98-A215-01DCEBEF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0C7-2ED5-4F02-AC8D-FE1F764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49F-3641-4F86-BF97-0E349285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555-13A4-4D48-9691-3C3CB389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EF8-D086-4F9E-A232-F7863CD8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DFE-781B-43FA-B277-C95DBA7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A13-4ECE-4C03-A914-AE5EB97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1F5-D916-4F69-AA66-4FDB1C0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19F-BD5B-47FC-88D0-3C330A6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0504-9B00-4698-9B63-7E1713770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