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56877"/>
        <c:axId val="2188411"/>
      </c:barChart>
      <c:catAx>
        <c:axId val="30556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8411"/>
        <c:crosses val="autoZero"/>
        <c:auto val="1"/>
        <c:lblAlgn val="ctr"/>
        <c:lblOffset val="100"/>
        <c:noMultiLvlLbl val="0"/>
      </c:catAx>
      <c:valAx>
        <c:axId val="2188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56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9DA-9E54-4B81-B668-3C85A6B2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CAF-8B5B-472C-A7F9-2EB450D7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6EE-9E15-4624-A5BE-E5B84DD7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867-3776-4BAE-B790-3458A2EB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7A2-48A7-4C93-B87B-A1D6EE73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1AF5-EB40-415E-BE54-BBC7ED1B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D90-65A6-46E9-B742-99F0AE5E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ED6-BE5C-4532-A8C1-388B91A2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E51-66E7-455E-9C2E-824ED8C3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98D-9F0C-480A-A726-338FC920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0B8-3657-4B66-A68E-B19875D4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85D-B275-4F22-BA0D-6002A667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FA456-027D-4B4F-A6A9-391BD5E4A5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