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35034"/>
        <c:axId val="81254166"/>
      </c:barChart>
      <c:catAx>
        <c:axId val="25535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4166"/>
        <c:crosses val="autoZero"/>
        <c:auto val="1"/>
        <c:lblAlgn val="ctr"/>
        <c:lblOffset val="100"/>
        <c:noMultiLvlLbl val="0"/>
      </c:catAx>
      <c:valAx>
        <c:axId val="81254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5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E19-653A-4019-885C-EA5DF46E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746-F76B-453E-90AC-C3A36B8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10A-8812-4E6D-B361-0914C63B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D9B-3F78-4851-8205-C0A462EA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AAB-E426-4019-86BF-BB24011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1F7-9B6E-4435-A75B-230D6A7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A1E-E8E3-4903-82FD-6005666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730-98D1-4FFF-BE96-0F8A723F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76D-7C99-4AF6-991F-24DC20AB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8EA-84C1-40AE-971B-F516027C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3CB-9486-4AA5-B23E-9722450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19C-AB62-4579-A80B-3495BA6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6362C-00B7-4454-9909-6B43FC51DD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