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393413"/>
        <c:axId val="24863607"/>
      </c:barChart>
      <c:catAx>
        <c:axId val="61393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63607"/>
        <c:crosses val="autoZero"/>
        <c:auto val="1"/>
        <c:lblAlgn val="ctr"/>
        <c:lblOffset val="100"/>
        <c:noMultiLvlLbl val="0"/>
      </c:catAx>
      <c:valAx>
        <c:axId val="248636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93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D562-1D6E-4ACD-9EDB-A515FFFD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30FD-6C65-481D-8922-D9FDE3F0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188C-16EA-497D-930B-87C39E5E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607D-6A61-4674-B094-63552F40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2F0B-50D0-49ED-A609-A86C5AC6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E831-0EA7-456D-AA48-FF0C576D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41F9-5E5F-4180-8D7E-3AF6AFBA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6D3C-6802-497A-BE4F-8647225B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FB76-9771-4FED-BCFB-90237D03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5941-6FED-444D-866B-3C1D15BD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5E24-EFFB-4663-A51C-60E33EED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AE70-83C9-4818-A9F1-53C6EB80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54725-A1EE-44AF-9AE4-9BC07763CB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