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55712"/>
        <c:axId val="95032028"/>
      </c:barChart>
      <c:catAx>
        <c:axId val="81655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2028"/>
        <c:crosses val="autoZero"/>
        <c:auto val="1"/>
        <c:lblAlgn val="ctr"/>
        <c:lblOffset val="100"/>
        <c:noMultiLvlLbl val="0"/>
      </c:catAx>
      <c:valAx>
        <c:axId val="95032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5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628-879B-4C27-940A-8EF6A4FD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DEC-8B73-4164-8C1D-169C587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541-BC55-4C6A-931D-F28CB78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C06-96C5-4FBE-866C-41635045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C63-D6FA-4855-9BB2-2F53838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7CC-4695-4D3A-9757-B98FFA5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12A-F957-4A2A-9844-12A5D4D4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BA0-F30D-4BFC-83D1-E6FB38FB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68C-8A34-44D2-97AE-6C164F6C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986-E7A4-4DA3-901B-FDB174CF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442-93B1-412E-BC06-46BF573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1DD-BB9B-4326-B9CE-541846D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DC0D4-D94E-44A7-9992-8D2610B246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