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44310"/>
        <c:axId val="69511257"/>
      </c:barChart>
      <c:catAx>
        <c:axId val="25744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1257"/>
        <c:crosses val="autoZero"/>
        <c:auto val="1"/>
        <c:lblAlgn val="ctr"/>
        <c:lblOffset val="100"/>
        <c:noMultiLvlLbl val="0"/>
      </c:catAx>
      <c:valAx>
        <c:axId val="69511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44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3EB-061E-40B3-98A7-D5CF91F5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BCF-722F-49AE-BBB8-0C4123BD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CA4-850B-40AE-BFE1-CF3218CC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BDA-4A06-4FEB-A896-6DF6D52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4AA-C51F-4C93-B09B-800E8949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A65-372C-4223-BD82-56883E27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3F3-719F-4F52-8A87-61DAB5A2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F7D-6F8A-4251-9FB7-97CB9F1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261-AD86-4F8C-A12E-310E2415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DD6-5727-40D7-B77A-A625E17D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0CD-9E27-4E67-94C6-262FB894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379-6842-4701-B602-5457EB9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4186E-046B-461C-A52A-E82E4F147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