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04136"/>
        <c:axId val="96319605"/>
      </c:barChart>
      <c:catAx>
        <c:axId val="74504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9605"/>
        <c:crosses val="autoZero"/>
        <c:auto val="1"/>
        <c:lblAlgn val="ctr"/>
        <c:lblOffset val="100"/>
        <c:noMultiLvlLbl val="0"/>
      </c:catAx>
      <c:valAx>
        <c:axId val="96319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04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3D5-52AF-48F3-AA4F-55A7563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F13-5130-42CD-A041-83E31D35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5CB-E103-4C4A-B8EA-4BC1D970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663-9725-457F-AEA1-3DF27F9C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462-5DA4-4336-BD56-C95B80B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245-858F-4B67-836A-A1F1443B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B73-13ED-4CD4-81A8-70A84B5A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858-2B78-4250-818F-B93FC16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7C7-58C8-4CDD-867F-12607E93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4EC-6D83-44FA-86D1-441C37A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9B8-44E8-4623-BAA1-04E3D6A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A9F-45B3-4FAF-8EF6-8ED9219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234DD-B2B6-4DC6-893F-0FF01613C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