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524225"/>
        <c:axId val="44607394"/>
      </c:barChart>
      <c:catAx>
        <c:axId val="885242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07394"/>
        <c:crosses val="autoZero"/>
        <c:auto val="1"/>
        <c:lblAlgn val="ctr"/>
        <c:lblOffset val="100"/>
        <c:noMultiLvlLbl val="0"/>
      </c:catAx>
      <c:valAx>
        <c:axId val="446073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242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B60C-F268-4136-84A2-E724C1E7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F470-32B2-4AE4-95CE-D4B4FB99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0ACE-1536-48D0-B5DE-4508BAD6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2906-BA3D-40EB-8CCE-B781C530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BBBD-A2D7-485E-90F5-D58D5DC1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1B03-AB9D-4A83-A328-4AED78C4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D4E1-42E8-45E5-A902-C435FC7F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41E4-AB33-4D3E-844B-705F3C44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93C2-4E8C-4273-9617-02A638ED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3F39-B4C4-4AE4-8DE7-528889D5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06F3-8DDC-4E35-B0D2-0F142EF2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E08B-80C6-4407-9723-42F7B395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8A157-4878-4E26-8FA0-DD5D13B63D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