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09998"/>
        <c:axId val="75282996"/>
      </c:barChart>
      <c:catAx>
        <c:axId val="27409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2996"/>
        <c:crosses val="autoZero"/>
        <c:auto val="1"/>
        <c:lblAlgn val="ctr"/>
        <c:lblOffset val="100"/>
        <c:noMultiLvlLbl val="0"/>
      </c:catAx>
      <c:valAx>
        <c:axId val="75282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9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E1F-F69C-4B1C-9184-41CDB44B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277-D33B-44BD-8DEA-13240A15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F41-8FB2-46EF-A675-DDF758B1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E64-DC6C-44A1-A66A-51A16613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218-37B7-417F-A415-17C12BAB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DC8-CE9F-4596-9F9A-AB5C64C5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20C-1230-4A22-85C2-70D9B47F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BA8-C35F-4C79-A9E5-B550B4E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EDE-87B8-4D26-A65B-43DF1E4D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51C-091C-421F-844F-03754D9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4F8-02B6-4A57-A26D-E3C00065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212-AEA3-4E8A-B235-00D93DA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8DE4C-7A66-4C01-AC54-BDA470990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