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73530"/>
        <c:axId val="83484302"/>
      </c:barChart>
      <c:catAx>
        <c:axId val="85473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84302"/>
        <c:crosses val="autoZero"/>
        <c:auto val="1"/>
        <c:lblAlgn val="ctr"/>
        <c:lblOffset val="100"/>
        <c:noMultiLvlLbl val="0"/>
      </c:catAx>
      <c:valAx>
        <c:axId val="83484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73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B65-6F61-4EF7-B054-CFC32D07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4BA-9299-4802-BD87-5DEA8264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5D0-4881-49BC-A353-6C8C6A77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2F8-E8CC-492F-98C2-A6732989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648-3518-4E88-9005-06E7DC53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FE1-63DA-4D95-8FC4-F2749D23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150-98E1-44DB-A734-3935A0C8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EEE-680F-48A6-ACBF-AEEB0071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229-27DB-44C6-B3A7-3FDE6857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BA1-0BE7-4711-93FF-326613FF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514-751E-4619-A9B0-0DDA4CE2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BB3-20AB-4479-9E03-57CC8934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878A9-922D-4DB3-89A2-ABD40382C2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