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74903"/>
        <c:axId val="12969627"/>
      </c:barChart>
      <c:catAx>
        <c:axId val="31874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69627"/>
        <c:crosses val="autoZero"/>
        <c:auto val="1"/>
        <c:lblAlgn val="ctr"/>
        <c:lblOffset val="100"/>
        <c:noMultiLvlLbl val="0"/>
      </c:catAx>
      <c:valAx>
        <c:axId val="12969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74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6FD-1202-4B76-8C89-3BCFA546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E55-C44C-48EE-A487-4226799E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13C-7447-46BD-B239-38AE5346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BAA-E35B-4441-8796-1F3D68AE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342-8039-411E-8118-9C17932F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634-9106-4B52-B81B-6896FEB6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806-CD37-4BB3-AC9E-211C410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43B-F865-461E-895F-BF6A29E5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F9D-9196-459A-A80D-AD93AAB6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A3A-A915-4ED2-A56B-69A2BD7B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364-47DB-452D-A726-6ABCDE2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010-7D81-4B52-B855-42BABB42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D10F5-A323-439E-AD55-76BB98FBB7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