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46476"/>
        <c:axId val="99770592"/>
      </c:barChart>
      <c:catAx>
        <c:axId val="704464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70592"/>
        <c:crosses val="autoZero"/>
        <c:auto val="1"/>
        <c:lblAlgn val="ctr"/>
        <c:lblOffset val="100"/>
        <c:noMultiLvlLbl val="0"/>
      </c:catAx>
      <c:valAx>
        <c:axId val="99770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464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7D8-5E20-4587-B06E-F4B436CD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F1C-0AC8-44CB-98DD-BD17377D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C18-9340-4FD4-ABBD-712AD00A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504-AAE0-46C3-9C86-A9B85611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7655-D61F-4853-B42D-FFB3E23B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794-4CD3-4750-AA46-0320147B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B3C-61F8-417D-85D9-2AD6FD33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CB2-6DF4-420E-B88D-1EA72F89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84C-92C3-4809-96B4-90300C8F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955-DCEB-4F21-A2D8-9964ED67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0A5-5597-4EA4-812A-D3A8282A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692-44B4-4770-983B-3D033106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C75DF-7DC9-4BC0-B692-49800AFE7D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