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95628"/>
        <c:axId val="68232575"/>
      </c:barChart>
      <c:catAx>
        <c:axId val="34995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32575"/>
        <c:crosses val="autoZero"/>
        <c:auto val="1"/>
        <c:lblAlgn val="ctr"/>
        <c:lblOffset val="100"/>
        <c:noMultiLvlLbl val="0"/>
      </c:catAx>
      <c:valAx>
        <c:axId val="68232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5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3D8-42F6-479D-A54E-AC08C44A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D5D-9D88-44F4-A68E-0700860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0CC-7E71-4958-9F3D-CBC8B23D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3E0-76D9-444F-B271-505EB5E4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5F1-0CA5-4A5A-879A-CE2F309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D7C-3155-45B0-AE4F-71D4EEA1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1C7-D84A-45E9-AEF0-B773C05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F02-743A-4EE0-A9FA-F4C93E3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939-A4F7-4026-BA0F-63504D6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587-8A69-4C5D-82F0-165FB51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485-F2A4-4E85-8E35-38EE5AF9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816-B71A-4A0D-9DD4-FFA08B5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E363D-320F-48A6-8224-144A16EB1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