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2506439"/>
        <c:axId val="4485912"/>
      </c:barChart>
      <c:catAx>
        <c:axId val="6250643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85912"/>
        <c:crosses val="autoZero"/>
        <c:auto val="1"/>
        <c:lblAlgn val="ctr"/>
        <c:lblOffset val="100"/>
        <c:noMultiLvlLbl val="0"/>
      </c:catAx>
      <c:valAx>
        <c:axId val="448591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50643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5D6C-5785-4F39-A8ED-2A30C38BF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C4DF-1DCD-4F4D-BD40-EF53817BA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5B3E-8EB5-4140-982D-0D19C5378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5977-7B27-4740-B1D0-D2AC658DB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54BC-CC11-4752-9D7A-8620EA8EE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662E-A497-41F6-B189-5B77AD994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1384-2E49-45F6-8BE4-C179172E8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ED6F-E0E1-41F2-8746-8FE69AD65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FAC7-D4BD-41C5-8065-69D2AC2B2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4FA8-9F54-432F-AFE5-250247597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1B5D-CD00-4190-A885-13C8CFAC3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04B6-8727-4243-86FA-4536A0A0A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C2745A-7EE8-4A1E-A24A-86F71CDFD8A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