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64768"/>
        <c:axId val="64069552"/>
      </c:barChart>
      <c:catAx>
        <c:axId val="74864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69552"/>
        <c:crosses val="autoZero"/>
        <c:auto val="1"/>
        <c:lblAlgn val="ctr"/>
        <c:lblOffset val="100"/>
        <c:noMultiLvlLbl val="0"/>
      </c:catAx>
      <c:valAx>
        <c:axId val="64069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64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812-6241-437B-8E9C-C7A40B4D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A09-290A-4FBC-A2EF-0F4A21D0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64C-0DEE-45CA-9ED9-5E1F8F27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645-E6C5-4F21-8841-FFA3E978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C73-1450-41E9-9541-99873E4A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562-D69B-4B48-B785-6A82381A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17B-4AFD-45D6-889C-DB2FEEBD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163-5606-4E17-B7D4-E08ADE2E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FAC-6C46-464E-BFE8-954C937F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DB0-21F9-4718-9325-01B88610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8BD-C511-44E4-A158-6EBC1E5B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3F4-2002-47A7-882C-06AB6B4A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DEFC5-BB1E-4D63-B614-3CBA4A3C02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