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35970"/>
        <c:axId val="30407133"/>
      </c:barChart>
      <c:catAx>
        <c:axId val="24835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07133"/>
        <c:crosses val="autoZero"/>
        <c:auto val="1"/>
        <c:lblAlgn val="ctr"/>
        <c:lblOffset val="100"/>
        <c:noMultiLvlLbl val="0"/>
      </c:catAx>
      <c:valAx>
        <c:axId val="30407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35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422-1F51-40D8-94D0-FFB1028B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0BC-025D-4127-B10E-CDC95396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9F0-170E-45C9-AA48-78C79E7D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199-77D1-4F27-9E9D-09DF5C92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751-A3AB-4AFA-B331-98E7F3C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78F-D3F5-4C7A-A0A7-6C22BB7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1DE-5546-4235-A11F-F17BE56F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BD9-3347-46E6-89E6-A4966112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0A8-F2BC-448B-BE65-009333C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3F1-8E58-4FDE-8B15-84BFC2D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E9D-C9D4-4A92-AC93-5F2769B6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896-1890-4B03-A7C7-0923EF26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66DB0-E8D7-429D-9FA2-CE063E15F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