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74746"/>
        <c:axId val="4649898"/>
      </c:barChart>
      <c:catAx>
        <c:axId val="18374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9898"/>
        <c:crosses val="autoZero"/>
        <c:auto val="1"/>
        <c:lblAlgn val="ctr"/>
        <c:lblOffset val="100"/>
        <c:noMultiLvlLbl val="0"/>
      </c:catAx>
      <c:valAx>
        <c:axId val="4649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74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439-E166-4AC8-97E9-E5166855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1A8-7872-4A28-B203-9C3D3A13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065-9E4B-4657-97FD-955E474A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A4C-B4B6-4CB0-A57B-006FE6E8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5F5-5DFF-4449-9723-9BA2EDD8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D2E-5E00-4C80-ACE5-6BB4D7D5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206-7A73-4ED0-8BA1-30C42901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3BD-6E74-427B-A13A-453F7B64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8BC-094A-4445-B826-BE9C628C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C94-BD60-47FE-AC58-28677B47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0CD-B732-469C-8FE1-1DE10F65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18A-C02B-46DD-89F3-5A851019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B11CC-D3A6-43EE-8767-B284213ADF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