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44224"/>
        <c:axId val="13176245"/>
      </c:barChart>
      <c:catAx>
        <c:axId val="924442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76245"/>
        <c:crosses val="autoZero"/>
        <c:auto val="1"/>
        <c:lblAlgn val="ctr"/>
        <c:lblOffset val="100"/>
        <c:noMultiLvlLbl val="0"/>
      </c:catAx>
      <c:valAx>
        <c:axId val="131762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442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4DD3-C6A4-4C0C-A4D8-7C6E5B46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C80E-186B-44B9-841E-872FF73F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7A7E-E6FB-483B-ADA9-2B67BDF3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3BB4-6F70-43FB-B7E8-E1C52173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39B-42F6-49FE-900E-13E38FEF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347-0766-4F97-86E2-9FEF0291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8CA-12E5-4869-AF4C-FFC6B4C1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676-5833-40FD-9AD2-5A5315E5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837E-0435-47AC-A31C-BDB6AF56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C45-6A95-4BB9-8F41-388E1DD5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C6F-E32E-4D32-98CB-27F1FBA6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2119-5522-4589-9C62-CBBA32E0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07C42-2353-4B2A-A23B-37A4FBD850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