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6025"/>
        <c:axId val="82165053"/>
      </c:barChart>
      <c:catAx>
        <c:axId val="17466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65053"/>
        <c:crosses val="autoZero"/>
        <c:auto val="1"/>
        <c:lblAlgn val="ctr"/>
        <c:lblOffset val="100"/>
        <c:noMultiLvlLbl val="0"/>
      </c:catAx>
      <c:valAx>
        <c:axId val="82165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6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259-F0B7-49ED-9636-83E0B64B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A3-2930-4994-BA32-48410DE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360-ADE7-4751-A441-819EA5E4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99E-D55B-4F96-A3BD-1986044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00C-BE23-4D05-AF80-B09A209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ADC-6932-4894-B709-DA29AF3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348-6572-441F-941F-F4D5D688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193-DF4C-466C-9CD0-9C49236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B6E-D154-4968-A235-206E8AB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17E-D865-4324-B16A-F87D6EF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C08-71EF-440F-8263-E12DEF7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2F6-0660-426F-9527-00F69F0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F9078-4D54-4DC7-A01C-3CB5CB2F3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