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38676"/>
        <c:axId val="21775555"/>
      </c:barChart>
      <c:catAx>
        <c:axId val="23138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75555"/>
        <c:crosses val="autoZero"/>
        <c:auto val="1"/>
        <c:lblAlgn val="ctr"/>
        <c:lblOffset val="100"/>
        <c:noMultiLvlLbl val="0"/>
      </c:catAx>
      <c:valAx>
        <c:axId val="21775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38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826-B983-4C43-9E52-85BD861B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56A-37F0-48F0-9300-F91CFBD2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77F-C2E3-4AAD-AC31-E8799AAE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FD6-AE1B-49DC-963E-CE9DDD30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825-A0E3-436F-A76B-4E61F847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2E4-407F-4A98-94E5-98CF974E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D6F-6E44-4224-AF45-8448E87E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D46-9581-4B98-9B1B-7BBF24C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0DC-7E79-443D-B072-2C3D2012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FD4-4FA0-4947-AFA5-D1FFF4FF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854-8E9E-40FA-A02D-FDB68105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889-E0ED-49AA-AA0D-625B9AE8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B447C-F611-4F81-9E92-EFC73EB885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