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50920"/>
        <c:axId val="20880642"/>
      </c:barChart>
      <c:catAx>
        <c:axId val="32850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0642"/>
        <c:crosses val="autoZero"/>
        <c:auto val="1"/>
        <c:lblAlgn val="ctr"/>
        <c:lblOffset val="100"/>
        <c:noMultiLvlLbl val="0"/>
      </c:catAx>
      <c:valAx>
        <c:axId val="20880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50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411-1FA3-46B4-A362-17CC78DF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E69-82FD-40CE-B398-86DB2561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F6B-EA5A-4B26-A992-43E4D844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3F2-40F4-44B6-A34C-8CFA9C6F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A36-1AEC-4188-834E-63495D5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F0D-5716-4DEB-9E1A-7F92E456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3C9-2C7F-4C34-9DAC-A6B2D8D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6B7-F2C7-48D2-8B7E-0A82BC60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9AE-109B-40F5-A1E7-FEB7DBD8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B36-1478-46B1-9D0E-7998AD0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CC4-8205-4B10-910A-B3AC809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ACD-2F2D-449C-AA62-AACA4EC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04052-6500-4867-80AB-FF681C15CF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